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jpeg" ContentType="image/jpeg"/>
  <Override PartName="/ppt/media/chomp.wav" ContentType="audio/x-wav"/>
  <Override PartName="/ppt/media/image8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buzzer.wav" ContentType="audio/x-wav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  <p:sldId id="280" r:id="rId50"/>
    <p:sldId id="281" r:id="rId51"/>
    <p:sldId id="282" r:id="rId52"/>
    <p:sldId id="28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slide" Target="slides/slide25.xml"/><Relationship Id="rId51" Type="http://schemas.openxmlformats.org/officeDocument/2006/relationships/slide" Target="slides/slide26.xml"/><Relationship Id="rId52" Type="http://schemas.openxmlformats.org/officeDocument/2006/relationships/slide" Target="slides/slide27.xml"/><Relationship Id="rId53" Type="http://schemas.openxmlformats.org/officeDocument/2006/relationships/slide" Target="slides/slide2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4D23-2BC9-45DE-9B0C-0F206EB79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4968-2F8A-4D27-BB26-159F2254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17CE1-D1DD-4422-A07E-028D188A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1D9FB-18C8-4049-90A8-BAF6D11D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E0854-F884-4101-8AB2-FFEB3BA8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4BB50-2370-4A8B-90D7-6635F90C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4DD34-E68B-4BC7-BFEA-2C8BE365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A3129-4B5E-42A2-932D-175EB5E6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9C964-D67F-48C8-BFFD-A4E276AE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0D738-3736-4073-BA76-F84698D3D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AA740-5BD2-46BE-8DD7-BAC5551C6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8A5F8-9103-4B36-97B1-516193453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8468-A832-4D3A-B155-AD2A68688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4CDF2-0A92-402F-9103-CDD76D8D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85319-3811-463E-8940-1E18FB57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776AD-91CF-4B5E-AE7B-519CB46F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D5244-8E53-4F11-A884-0494DFCD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16084-35C0-430A-BC48-A320E705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B9B39-4A49-4E88-A351-86166284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54556-5FBE-493E-9C8A-8E54103C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88469-32CE-422C-8D12-344C67B8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20EB2-11A4-458B-939E-4C47C67A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1A8C1-872A-41B7-B33F-9D562B18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CB8F-67C3-4AD5-811B-5B601D624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4A3E6-8346-46C9-8A5C-F3031A76F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33896-C52C-40CC-A159-6B63756CD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C0F62-09B6-4654-B5CE-F994E874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146BB-B028-4C39-97D6-C760FCF6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FB5AD-6225-4D4C-B8BA-657DDD3B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3F1C5-E2A5-4E01-953E-5FC50096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751B7-3187-4793-9332-24793EE2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18EE9-5051-471D-93F3-AC07BA55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8DDBC-2063-4BD8-9B37-DB19EAD3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B616E-4AAE-44CF-9CBD-77EB99C2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08D41-0A3C-43B9-B7A5-9ED44576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E535C-C500-4930-BE2F-ABE51B4E9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74FCB-67D6-46EC-9A01-101E5651B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39851-64CE-4D71-AE80-A88C28559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E51F1-9DB6-4F84-95B9-0E589622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8B41F-872D-4C10-B066-65338A96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8F25F-CE91-451B-AB2E-D2C55A24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203E2-A8EB-4F79-AAA2-3F34F4CA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978A9-7C44-4FE4-8674-26BD4D2C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10D55-92CF-43FA-BD7D-D63503D5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632DA-6DCD-4253-A52D-AD268DED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55327-CDF9-4605-944A-41A8614D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82B70E-1A06-4EDB-A071-EDAC17E3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16653E-5BB1-44BF-9A6B-95D06F64E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6E3062-6561-44DD-BA46-67E188BCE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BAF275-CF1F-4213-A2B3-AA13F70E9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8A66D-3E4E-4F3B-BAE8-DE04712F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E40E6A-467F-479A-84A9-212AFEAC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D5E499-D06F-448E-9047-F9FA0AFB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EB9FA0-2312-459A-BE61-764597E0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40A273-10F7-41E3-AA5A-1AEC7938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31F981-A7EF-4382-8ECE-3C98DA1D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6CC38-66DF-4DD4-90E8-24FA18AE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AC014E-31A2-4E8F-B654-7F384AD8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4D0C80-6E05-4561-8077-8E53296A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DF3588-C544-4ED1-A255-C5B397FAB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1C746-CCFF-4E92-8141-911E06DE6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0FECF-DB4B-42CC-B624-5FE62F8ED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541172-5610-4B21-B4E3-2616C374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22C01-F1FA-41A0-A8C9-9EA26C46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913A7-5D04-4F8E-9C88-0E255350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091D0-073D-42D3-8C8A-063D8F27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7C8C9-7113-41A9-99A1-32A33B09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0744F-D4EA-400C-98D7-081A770D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A6D0A-5F85-4BFF-A5CE-E3905644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9AD85-6801-4751-9052-9C6184B9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08195-06D2-4864-8EDE-69944F1D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F1713-21F8-442B-B1CF-A5FA5BF1B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0B0A3-0846-4C7C-90D6-D09031FFB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9B842C-8D39-4AB9-B6ED-D689E1334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152788-83D6-4B2F-AB74-1B8B7B61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EB70E-8849-48E7-9338-9F9FFDCB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CFD0D1-6691-4083-81D4-3BB163C1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B88E19-16E9-4316-9618-95F96A8A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635495-7830-4A05-9003-21FEEAC2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F154B2-5614-4DE5-B03F-BC0FB3FC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580A2B-D21C-4EE6-9C9B-CCC45A6D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F89F75-6AB4-4E8D-85A4-25E28401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9606C1-75F8-45A1-B067-86638018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BC1017-16CB-4520-8228-A7B2C5936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51001B-C627-4902-9B77-063365953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2B25B1-66F3-4B0B-9D70-249C0EB2D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98EFB6-7E01-49E8-9F0A-A64840DD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A114C8-00E6-400C-A3FF-9B5D099F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0CE6D6-E555-4F20-94A6-2B007628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42AEE2-EB64-4219-954B-6A1EF6FF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F2E43F-13C5-4158-A6A3-7452A9C5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9CBE07-4620-43AC-B70A-2F689CD07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FF3047-B724-4B8B-813B-EBE3817B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282806-C50D-44CB-9E53-665343C4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CFF313-DA18-4859-8402-82CD02E5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9E9B90-7FF9-42EE-8C6F-C3386CDBD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5CB8AA-B4F7-4E7E-9C8D-4E632A136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0B763F-F90F-4D0A-9A03-C8CE8F498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B1AEF8-F00A-46D1-9E13-9AC2EB46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F3CD32-7E7B-4E62-8F60-25F35922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4D1281-F7FC-4924-BA5C-78048D79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147079-2BBC-43C8-8A1D-80B336BD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D0FCDD-4A2F-49A8-BA70-D40CE944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C4B79F-4CB6-46F9-A208-4BCF9910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0D08-4805-4907-8C60-8976393D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056227-0590-47FF-8A16-422684C9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E74562-2FB7-4C23-A778-D67ECE66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302D52-BF21-4F53-BE55-AFB72CFE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F14A34-413F-4AFE-AE42-4A76AF8E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FC1285-6C1D-420B-B682-E582A7A3F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052685-4830-47BB-A73E-26F41E11F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78AF87-D04E-4B6D-B523-20BD8AED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21983B-5161-4BE0-8915-13EED8C8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4103F9-E784-47DD-A77F-62487933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8DF8F8-C422-4203-A147-29D737B1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5B6A79-4ED6-4B83-B33D-D9E215DA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8CB5B8-3911-4879-91FB-0D2FF9A4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FD6C83-73A2-49E6-9218-D38B0DB5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F3DC7E-CB50-454F-8FB1-160BBFBD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27681A-49CC-4849-9476-4C123924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7B5D13-AA19-4063-BD44-89AD54C24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EEC98E-FD7B-45F9-98EA-52AF9A63E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0374F2-97DD-4C64-A512-7E19EA2BA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42C257-7656-4061-BD9D-EAA86993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A09450-6371-4503-B229-2D72CBAC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903984-0DD1-41AD-9F85-4E13B62F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8AD37F-4B96-4780-82C0-319D4251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23F83F-65E0-436A-AE20-B3C7148B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1675ED-055E-4774-BB4E-9BC9D6ED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142275-6131-47BE-B90D-58367C0A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FAA26D-4533-4679-B6AF-8599E00E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7DD97A-E475-404B-92B2-04810381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08E3AA-146F-410D-8957-76466F447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EA65D1-1B12-4320-AC24-61B122930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4A6EAC-9757-4D7F-AAB3-880360331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2F0EE9-881D-4152-88E9-EA88EC68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76D193-3AA2-4EDD-8082-5C6B865B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2C2679-C3E2-4EA7-AD50-4375CBDF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BA8544-693F-450D-9D39-DAA46CE9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FFB77F-DC79-4EC5-ACA4-AAE0FAC4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6913B3-D932-4B8C-9648-527E05E4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235191-752B-4340-B26D-46001E4C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548C64-71D5-4295-967F-B9B84171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D2E699-C783-4E61-9FD1-B0D1CD87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E29E12-8B7D-4F71-BE03-0F9E2BF3A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ECBA25-F6E4-4740-8942-C732E8603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3FD70B-C7C6-4401-873A-7840CD059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558A99-C04D-413C-8461-D515927C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46139E-1A93-4C49-B7FA-75B00A2E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EFFA08-EA95-4547-9304-54D0C3C3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B2F6D1-9C3F-47BA-9D62-982F0610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18C08D-5C1B-4D64-88A2-1C28C4C2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7A2A0D-7821-44BD-9D96-0435F3CC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351A68-7FAA-428F-8968-3AECAD7E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98DD65-960F-45D5-87FC-220DC3E0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6D31B1-124F-42FD-8122-CB4308EF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018BF6-110E-43C1-AFEB-AB923BBBF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DD2A5F-C826-4F1D-8F39-3D3E4B730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D1B6C8-D8DD-46DD-8A55-23FE9D92D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4A2391-BA78-4209-AF3B-770B3BDC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7BFF15-8CD1-49D7-A8F0-BA58A9BD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9B6861-CF8C-440B-B602-ED6C658F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C0B8A7-F69E-4D36-A792-0C4B62A8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252170-D45B-4978-8288-F56B2B5A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E748FE-5FC2-4BB7-A6BB-481297C2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39EEB5-136C-409C-BBD2-744BEEED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91EE34-A6CD-4AE1-8BDF-DBEBF901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C1DEEA-11C1-4DF9-8F80-4723F935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C6A0BD-93D3-455E-95A2-91FFF742B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7C67EE-CC6C-4E90-9A05-565174E3B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F86664-2695-43BD-86B9-33841BEE5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3C708F-7D05-465A-BAF0-D4529EAB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7CD4BB-77B1-4FF7-AB3C-383CCD78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82EB6A-98E3-4A63-AD7B-A5AC1D15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0D5416-2FED-4E41-B1E6-06103201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F2B5AC-2EE5-4585-AA87-0CE09E75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943018-21F3-47A1-9076-7CB27D2E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52B012-71FB-4AF1-B5FE-16D8E7CA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679973-FDCE-4373-86BF-5083741E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2776F2-9836-40A1-9BA5-0AF26492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5A90B1-FB5E-4B00-B256-C15C743D5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BCC4BE-EF59-4590-B327-6C868F3AD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10C55C-A68C-40E0-B604-65FF0D273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F13DB7-368B-4E50-9089-0C8E7FD5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3309CD-58BA-4D11-9D92-7FD7565D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197143-FE26-4A43-BD51-0451E061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FD03D4-2E6F-4B26-9086-51B16CAF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480221-0FC1-4C66-9C07-0D6A8486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94D00E-DD4D-45D2-B688-D60C8E3D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4334F1-4793-4A3D-A775-59C39426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5F9D14-2CD6-49DA-B7BB-A5256845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3238E0-698E-457A-8527-C8A6893A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2F03E1-8B1D-46D7-99E0-5756BC681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3EBBBB-F3ED-42AB-BBAF-76DE19D7D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719A-CD4A-4393-9B01-614FD52D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CA7C-07AB-4C0F-BF1C-B47ED8C8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4058-B694-4E64-9A56-8079EAE47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D864-BB4B-444A-9FE9-BFA139B3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7FEC-A983-4CD8-B09D-7CB1088F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AAD4-3FA2-4B9D-A8B6-7AB3FE72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24A9-997F-4063-A0CE-73B43E98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3B1D-025D-42A5-8FF6-0FF95D52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8812-F756-4BFE-BD23-E647A4ED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2826-6D51-44B4-9FA5-ABC3F012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1404-3861-4AB5-9B2F-D4F6CFC0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1B72-ED18-4C52-9027-2A313ABD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533A0-255D-4A5C-A443-6E625841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0883-B9D8-4D6E-98BD-1CCBF05CD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22B9-469D-406D-8B8B-ED32FB58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6A82-728A-4573-9861-ABDC46941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DF120-7C13-4C35-820D-9AA4AE261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544DD-72FD-4003-8836-CD7CDBFA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CEF3D-9D42-4D6A-A0C9-C94EA622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32D08-5E97-44DB-98B3-EFDBD395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632D1-E34B-4765-AC78-1787855E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CCD74-1493-4EDC-9777-91C1E609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A06BA-3290-44B3-9B31-C1B8E843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2A1A8-2528-4EE3-8C42-F113E0AA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2A5B7-F2BF-4A07-8E1C-5C62B22E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2587-3468-4541-A28C-6692C979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E809B-A943-4B79-9F7E-C253B685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AE307-AE59-4EBE-93DA-170BB22CF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09BB8-E9CE-4503-A83D-1CD3A7E09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C008E-BC35-479E-879A-7499958A4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DFA6F-E217-4B53-82FA-CDC37DDF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F9BA5-83A5-4CCE-8F22-143F236E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4124A-2D1F-476C-8624-C23FD218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1F007-938A-401A-A25A-0AF1454F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8746B-18F8-479D-9507-CF385030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F0B1F-E07D-4998-A2D1-CD5ECF74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050F-FB7B-4C71-B7CC-9AE596DB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B0D79-D682-4069-B17C-4B552CFE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B7C78-1EB7-4DC7-B609-D9C6E10F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CAB94-49D6-4C21-9F50-57F0BE87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B7386-3D73-45D6-93D0-763CE66CE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4806E-957C-4B8F-B8B8-58391949C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646D1-FF30-4426-83A4-704265F6B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42043-122E-41AE-BD1D-DB255D02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30064-C02C-45EE-B456-A3324D22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02F24-89C5-453D-9223-2304A1C9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01467-0BB1-4FF7-8728-C70E56ED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C870-0915-45B3-A5B0-C64E2C33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F8A52-4934-493C-BFBC-690471B6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298F9-9512-4F81-BA10-636D22DF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5F915-D078-418A-8486-C9D9B0FE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6DF42-E44A-4284-A02F-59C07502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5CF29-D9DD-4C15-994B-EE415640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E730F-ACA0-4C3A-954E-004D8DA08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54044-20A4-4BA4-92D3-879615BF0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034C7-1AE0-41A8-816A-D8A32C730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3417D-45DA-4191-AC70-5975BCC6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0DB27-FAFE-47D0-B479-B8616E5B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69AB-E588-401B-AA6D-9317A5B750A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17D7-596C-4F79-AD3C-F76988F99AC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7CEB-5BF3-4991-B6A8-B3E83135A89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6515-2EF2-410C-B979-22CFF34883C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A8A1-8F6A-43D4-9D24-C3D0B8BE2B4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DA59-A0CA-43AD-8B51-DB2AF3D3139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2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663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5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666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1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672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5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676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1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682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8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689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3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634C-32C1-47DB-901C-24072129118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3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734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6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737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2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743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6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747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2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753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9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760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4" name="PlaceHolder 1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6091-BEAF-40FF-8C5B-42B20FAEDA2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4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05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7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808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3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814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7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818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3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824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0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831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5" name="PlaceHolder 1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95FB-EA59-4A8F-A0DD-05D285269FC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5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76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8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879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4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885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8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889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4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895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1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902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6" name="PlaceHolder 1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8EE7-4F1B-4E90-816B-20F714EF037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6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947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9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50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5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56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9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960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5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966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2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973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7" name="PlaceHolder 1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DE94-5229-464C-B381-BDD6799DDBF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7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018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0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021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6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027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31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6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37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3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044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8" name="PlaceHolder 1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A916-F4CE-4FB1-A7AD-F74AA56AAAB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8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089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1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092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7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098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1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102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7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08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4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15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9" name="PlaceHolder 1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6F1E-5B8C-4C9D-888C-4AA194CF86C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9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160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2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163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8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169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2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173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8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179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5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86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0" name="PlaceHolder 1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2B93-3EC6-4B9A-B482-F8C149940AE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0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231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3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234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9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240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3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244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9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250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6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257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1" name="PlaceHolder 1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0188-87A4-401A-A3F9-C0093A2B743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1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1302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4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1305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0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1311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4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315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0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321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7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328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2" name="PlaceHolder 1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C372-318A-4699-A0D3-E603AEE5C7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GraphShape" hidden="1"/>
          <p:cNvSpPr/>
          <p:nvPr/>
        </p:nvSpPr>
        <p:spPr>
          <a:xfrm>
            <a:off x="127080" y="254160"/>
            <a:ext cx="1270080" cy="1269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Respond Grap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CorrectBarGroup"/>
          <p:cNvGrpSpPr/>
          <p:nvPr/>
        </p:nvGrpSpPr>
        <p:grpSpPr>
          <a:xfrm>
            <a:off x="1270080" y="3174840"/>
            <a:ext cx="2666880" cy="2540160"/>
            <a:chOff x="1270080" y="3174840"/>
            <a:chExt cx="2666880" cy="2540160"/>
          </a:xfrm>
        </p:grpSpPr>
        <p:sp>
          <p:nvSpPr>
            <p:cNvPr id="87" name="CorrectBar0"/>
            <p:cNvSpPr/>
            <p:nvPr/>
          </p:nvSpPr>
          <p:spPr>
            <a:xfrm>
              <a:off x="1270080" y="3174840"/>
              <a:ext cx="1079280" cy="254016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CorrectBar1"/>
            <p:cNvSpPr/>
            <p:nvPr/>
          </p:nvSpPr>
          <p:spPr>
            <a:xfrm>
              <a:off x="2857680" y="4444920"/>
              <a:ext cx="1079280" cy="1270080"/>
            </a:xfrm>
            <a:prstGeom prst="rect">
              <a:avLst/>
            </a:prstGeom>
            <a:solidFill>
              <a:srgbClr val="22ff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" name="PercentLabelGroup"/>
          <p:cNvGrpSpPr/>
          <p:nvPr/>
        </p:nvGrpSpPr>
        <p:grpSpPr>
          <a:xfrm>
            <a:off x="1270080" y="1270080"/>
            <a:ext cx="7429320" cy="317520"/>
            <a:chOff x="1270080" y="1270080"/>
            <a:chExt cx="7429320" cy="317520"/>
          </a:xfrm>
        </p:grpSpPr>
        <p:sp>
          <p:nvSpPr>
            <p:cNvPr id="90" name="PercentLabel0"/>
            <p:cNvSpPr/>
            <p:nvPr/>
          </p:nvSpPr>
          <p:spPr>
            <a:xfrm>
              <a:off x="127008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PercentLabel1"/>
            <p:cNvSpPr/>
            <p:nvPr/>
          </p:nvSpPr>
          <p:spPr>
            <a:xfrm>
              <a:off x="28573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3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PercentLabel2"/>
            <p:cNvSpPr/>
            <p:nvPr/>
          </p:nvSpPr>
          <p:spPr>
            <a:xfrm>
              <a:off x="44449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PercentLabel3"/>
            <p:cNvSpPr/>
            <p:nvPr/>
          </p:nvSpPr>
          <p:spPr>
            <a:xfrm>
              <a:off x="60325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00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PercentLabel4"/>
            <p:cNvSpPr/>
            <p:nvPr/>
          </p:nvSpPr>
          <p:spPr>
            <a:xfrm>
              <a:off x="7620120" y="1270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67%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IncorrectBarGroup"/>
          <p:cNvGrpSpPr/>
          <p:nvPr/>
        </p:nvGrpSpPr>
        <p:grpSpPr>
          <a:xfrm>
            <a:off x="4444920" y="1905120"/>
            <a:ext cx="4254480" cy="3809880"/>
            <a:chOff x="4444920" y="1905120"/>
            <a:chExt cx="4254480" cy="3809880"/>
          </a:xfrm>
        </p:grpSpPr>
        <p:sp>
          <p:nvSpPr>
            <p:cNvPr id="96" name="IncorrectBar2"/>
            <p:cNvSpPr/>
            <p:nvPr/>
          </p:nvSpPr>
          <p:spPr>
            <a:xfrm>
              <a:off x="44449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IncorrectBar3"/>
            <p:cNvSpPr/>
            <p:nvPr/>
          </p:nvSpPr>
          <p:spPr>
            <a:xfrm>
              <a:off x="6032520" y="1905120"/>
              <a:ext cx="1079280" cy="380988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IncorrectBar4"/>
            <p:cNvSpPr/>
            <p:nvPr/>
          </p:nvSpPr>
          <p:spPr>
            <a:xfrm>
              <a:off x="7620120" y="3174840"/>
              <a:ext cx="1079280" cy="2539800"/>
            </a:xfrm>
            <a:prstGeom prst="rect">
              <a:avLst/>
            </a:prstGeom>
            <a:solidFill>
              <a:srgbClr val="ff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XLabelGroup"/>
          <p:cNvGrpSpPr/>
          <p:nvPr/>
        </p:nvGrpSpPr>
        <p:grpSpPr>
          <a:xfrm>
            <a:off x="1270080" y="5842080"/>
            <a:ext cx="7429320" cy="317520"/>
            <a:chOff x="1270080" y="5842080"/>
            <a:chExt cx="7429320" cy="317520"/>
          </a:xfrm>
        </p:grpSpPr>
        <p:sp>
          <p:nvSpPr>
            <p:cNvPr id="100" name="XValueLabel0"/>
            <p:cNvSpPr/>
            <p:nvPr/>
          </p:nvSpPr>
          <p:spPr>
            <a:xfrm>
              <a:off x="127008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A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XValueLabel1"/>
            <p:cNvSpPr/>
            <p:nvPr/>
          </p:nvSpPr>
          <p:spPr>
            <a:xfrm>
              <a:off x="28573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B*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XValueLabel2"/>
            <p:cNvSpPr/>
            <p:nvPr/>
          </p:nvSpPr>
          <p:spPr>
            <a:xfrm>
              <a:off x="44449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XValueLabel3"/>
            <p:cNvSpPr/>
            <p:nvPr/>
          </p:nvSpPr>
          <p:spPr>
            <a:xfrm>
              <a:off x="60325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XValueLabel4"/>
            <p:cNvSpPr/>
            <p:nvPr/>
          </p:nvSpPr>
          <p:spPr>
            <a:xfrm>
              <a:off x="7620120" y="5842080"/>
              <a:ext cx="107928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AxisLineGroup"/>
          <p:cNvGrpSpPr/>
          <p:nvPr/>
        </p:nvGrpSpPr>
        <p:grpSpPr>
          <a:xfrm>
            <a:off x="888840" y="1587600"/>
            <a:ext cx="8001000" cy="4127400"/>
            <a:chOff x="888840" y="1587600"/>
            <a:chExt cx="8001000" cy="4127400"/>
          </a:xfrm>
        </p:grpSpPr>
        <p:sp>
          <p:nvSpPr>
            <p:cNvPr id="106" name="XAxisLine"/>
            <p:cNvSpPr/>
            <p:nvPr/>
          </p:nvSpPr>
          <p:spPr>
            <a:xfrm>
              <a:off x="888840" y="57150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YAxisLine"/>
            <p:cNvSpPr/>
            <p:nvPr/>
          </p:nvSpPr>
          <p:spPr>
            <a:xfrm>
              <a:off x="1015560" y="1587600"/>
              <a:ext cx="0" cy="4127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YAxisTick0"/>
            <p:cNvSpPr/>
            <p:nvPr/>
          </p:nvSpPr>
          <p:spPr>
            <a:xfrm>
              <a:off x="888840" y="571500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YAxisTick1"/>
            <p:cNvSpPr/>
            <p:nvPr/>
          </p:nvSpPr>
          <p:spPr>
            <a:xfrm>
              <a:off x="888840" y="44449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YAxisTick2"/>
            <p:cNvSpPr/>
            <p:nvPr/>
          </p:nvSpPr>
          <p:spPr>
            <a:xfrm>
              <a:off x="888840" y="317484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YAxisTick3"/>
            <p:cNvSpPr/>
            <p:nvPr/>
          </p:nvSpPr>
          <p:spPr>
            <a:xfrm>
              <a:off x="888840" y="1905120"/>
              <a:ext cx="2538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YLabelGroup"/>
          <p:cNvGrpSpPr/>
          <p:nvPr/>
        </p:nvGrpSpPr>
        <p:grpSpPr>
          <a:xfrm>
            <a:off x="254160" y="1841400"/>
            <a:ext cx="761760" cy="3936960"/>
            <a:chOff x="254160" y="1841400"/>
            <a:chExt cx="761760" cy="3936960"/>
          </a:xfrm>
        </p:grpSpPr>
        <p:sp>
          <p:nvSpPr>
            <p:cNvPr id="113" name="YValueLabel0"/>
            <p:cNvSpPr/>
            <p:nvPr/>
          </p:nvSpPr>
          <p:spPr>
            <a:xfrm>
              <a:off x="254160" y="565164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YValueLabel1"/>
            <p:cNvSpPr/>
            <p:nvPr/>
          </p:nvSpPr>
          <p:spPr>
            <a:xfrm>
              <a:off x="254160" y="438156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YValueLabel2"/>
            <p:cNvSpPr/>
            <p:nvPr/>
          </p:nvSpPr>
          <p:spPr>
            <a:xfrm>
              <a:off x="254160" y="311148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YValueLabel3"/>
            <p:cNvSpPr/>
            <p:nvPr/>
          </p:nvSpPr>
          <p:spPr>
            <a:xfrm>
              <a:off x="254160" y="1841400"/>
              <a:ext cx="76176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0002-3796-49D5-B0BC-F89241F8620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6479-C736-4DD4-813A-78437B7835F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5FA5-C88A-4333-9722-BF3C27324A8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F6C3-B3E5-4103-ABEB-FAA6B3618F0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QuestionShape"/>
          <p:cNvSpPr/>
          <p:nvPr/>
        </p:nvSpPr>
        <p:spPr>
          <a:xfrm>
            <a:off x="127080" y="127080"/>
            <a:ext cx="8889840" cy="28573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457200" tIns="182880" bIns="18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iRespond Question Mas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Shape"/>
          <p:cNvSpPr/>
          <p:nvPr/>
        </p:nvSpPr>
        <p:spPr>
          <a:xfrm>
            <a:off x="127080" y="311148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) Respons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BShape"/>
          <p:cNvSpPr/>
          <p:nvPr/>
        </p:nvSpPr>
        <p:spPr>
          <a:xfrm>
            <a:off x="127080" y="383544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) Response 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CShape"/>
          <p:cNvSpPr/>
          <p:nvPr/>
        </p:nvSpPr>
        <p:spPr>
          <a:xfrm>
            <a:off x="127080" y="455940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) Response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DShape"/>
          <p:cNvSpPr/>
          <p:nvPr/>
        </p:nvSpPr>
        <p:spPr>
          <a:xfrm>
            <a:off x="127080" y="5283360"/>
            <a:ext cx="8889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) Response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EShape"/>
          <p:cNvSpPr/>
          <p:nvPr/>
        </p:nvSpPr>
        <p:spPr>
          <a:xfrm>
            <a:off x="127080" y="6006960"/>
            <a:ext cx="88898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) Response 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ercent"/>
          <p:cNvSpPr/>
          <p:nvPr/>
        </p:nvSpPr>
        <p:spPr>
          <a:xfrm>
            <a:off x="635004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ercent Complete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imer"/>
          <p:cNvSpPr/>
          <p:nvPr/>
        </p:nvSpPr>
        <p:spPr>
          <a:xfrm>
            <a:off x="254160" y="254160"/>
            <a:ext cx="2539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00: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21737-1FE7-481A-9135-526DE49B660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omp.wav"/><Relationship Id="rId3" Type="http://schemas.openxmlformats.org/officeDocument/2006/relationships/audio" Target="../media/chomp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buzze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TextBox 6"/>
          <p:cNvSpPr/>
          <p:nvPr/>
        </p:nvSpPr>
        <p:spPr>
          <a:xfrm>
            <a:off x="5486400" y="35053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TextBox 7"/>
          <p:cNvSpPr/>
          <p:nvPr/>
        </p:nvSpPr>
        <p:spPr>
          <a:xfrm>
            <a:off x="5486400" y="4038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3" name="Picture 5" descr="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1374" name="Rounded Rectangular Callout 4"/>
          <p:cNvSpPr/>
          <p:nvPr/>
        </p:nvSpPr>
        <p:spPr>
          <a:xfrm>
            <a:off x="4648320" y="2438280"/>
            <a:ext cx="3352680" cy="2667240"/>
          </a:xfrm>
          <a:prstGeom prst="wedgeRoundRectCallout">
            <a:avLst>
              <a:gd name="adj1" fmla="val -96925"/>
              <a:gd name="adj2" fmla="val 2364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is brought to you by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©2014 by Robin L. Simm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3" name="Picture 10" descr="confident.jpg"/>
          <p:cNvPicPr/>
          <p:nvPr/>
        </p:nvPicPr>
        <p:blipFill>
          <a:blip r:embed="rId1"/>
          <a:srcRect l="0" t="0" r="0" b="42733"/>
          <a:stretch/>
        </p:blipFill>
        <p:spPr>
          <a:xfrm>
            <a:off x="1219320" y="4800600"/>
            <a:ext cx="1600200" cy="2057400"/>
          </a:xfrm>
          <a:prstGeom prst="rect">
            <a:avLst/>
          </a:prstGeom>
          <a:ln w="0">
            <a:noFill/>
          </a:ln>
        </p:spPr>
      </p:pic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mas, Part 1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Without a doubt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asmine will pass the comma tes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6" name="Rounded Rectangular Callout 5"/>
          <p:cNvSpPr/>
          <p:nvPr/>
        </p:nvSpPr>
        <p:spPr>
          <a:xfrm>
            <a:off x="5181480" y="5029200"/>
            <a:ext cx="2819520" cy="1676520"/>
          </a:xfrm>
          <a:prstGeom prst="wedgeRoundRectCallout">
            <a:avLst>
              <a:gd name="adj1" fmla="val -147314"/>
              <a:gd name="adj2" fmla="val -2706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Yo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uld know commas as well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Subtitle 2"/>
          <p:cNvSpPr/>
          <p:nvPr/>
        </p:nvSpPr>
        <p:spPr>
          <a:xfrm>
            <a:off x="762120" y="1523880"/>
            <a:ext cx="76197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commas to connect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introductory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interrupting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nd some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concluding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ter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terrupting material will include a comma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befor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comma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after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Subtitle 2"/>
          <p:cNvSpPr/>
          <p:nvPr/>
        </p:nvSpPr>
        <p:spPr>
          <a:xfrm>
            <a:off x="1371600" y="3886200"/>
            <a:ext cx="6400800" cy="9144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asmine will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, without a doubt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ass the comma te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Subtitle 2"/>
          <p:cNvSpPr/>
          <p:nvPr/>
        </p:nvSpPr>
        <p:spPr>
          <a:xfrm>
            <a:off x="1371600" y="3886200"/>
            <a:ext cx="6400800" cy="9144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asmine will pass the comma test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, without a doub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mas, Part 2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 type="subTitle"/>
          </p:nvPr>
        </p:nvSpPr>
        <p:spPr>
          <a:xfrm>
            <a:off x="1066680" y="3657240"/>
            <a:ext cx="70106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asmine will pass the comma test. Slacker Sam will no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2" name="Subtitle 2"/>
          <p:cNvSpPr/>
          <p:nvPr/>
        </p:nvSpPr>
        <p:spPr>
          <a:xfrm>
            <a:off x="609480" y="1523880"/>
            <a:ext cx="76201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a comma with a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coordinating conjunction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connect two senten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ordinating conjunctions =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and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but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for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or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nor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yet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n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so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Subtitle 2"/>
          <p:cNvSpPr/>
          <p:nvPr/>
        </p:nvSpPr>
        <p:spPr>
          <a:xfrm>
            <a:off x="1066680" y="3657600"/>
            <a:ext cx="7010640" cy="12193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asmine will pass the comma test</a:t>
            </a:r>
            <a:r>
              <a:rPr b="0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, </a:t>
            </a:r>
            <a:r>
              <a:rPr b="0" i="1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bu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Slacker Sam will no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4" name="Picture 6" descr="modest.jpg"/>
          <p:cNvPicPr/>
          <p:nvPr/>
        </p:nvPicPr>
        <p:blipFill>
          <a:blip r:embed="rId1"/>
          <a:srcRect l="0" t="0" r="0" b="39064"/>
          <a:stretch/>
        </p:blipFill>
        <p:spPr>
          <a:xfrm>
            <a:off x="1371600" y="4521240"/>
            <a:ext cx="3648240" cy="2336760"/>
          </a:xfrm>
          <a:prstGeom prst="rect">
            <a:avLst/>
          </a:prstGeom>
          <a:ln w="0">
            <a:noFill/>
          </a:ln>
        </p:spPr>
      </p:pic>
      <p:sp>
        <p:nvSpPr>
          <p:cNvPr id="1415" name="Rounded Rectangular Callout 5"/>
          <p:cNvSpPr/>
          <p:nvPr/>
        </p:nvSpPr>
        <p:spPr>
          <a:xfrm>
            <a:off x="5638680" y="4724280"/>
            <a:ext cx="2895840" cy="1905120"/>
          </a:xfrm>
          <a:prstGeom prst="wedgeRoundRectCallout">
            <a:avLst>
              <a:gd name="adj1" fmla="val -128208"/>
              <a:gd name="adj2" fmla="val -1026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 have to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study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you want to do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well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9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6" name="Picture 8" descr="happy.jpg"/>
          <p:cNvPicPr/>
          <p:nvPr/>
        </p:nvPicPr>
        <p:blipFill>
          <a:blip r:embed="rId1"/>
          <a:stretch/>
        </p:blipFill>
        <p:spPr>
          <a:xfrm>
            <a:off x="457200" y="4038480"/>
            <a:ext cx="1558800" cy="2819520"/>
          </a:xfrm>
          <a:prstGeom prst="rect">
            <a:avLst/>
          </a:prstGeom>
          <a:ln w="0">
            <a:noFill/>
          </a:ln>
        </p:spPr>
      </p:pic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mas, Part 3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 type="subTitle"/>
          </p:nvPr>
        </p:nvSpPr>
        <p:spPr>
          <a:xfrm>
            <a:off x="1143000" y="327636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asmine will buy a bag of potato chips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hotdog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9" name="Subtitle 2"/>
          <p:cNvSpPr/>
          <p:nvPr/>
        </p:nvSpPr>
        <p:spPr>
          <a:xfrm>
            <a:off x="762120" y="1523880"/>
            <a:ext cx="76197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  <a:ea typeface="Arial"/>
              </a:rPr>
              <a:t>and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e to connect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  <a:ea typeface="Arial"/>
              </a:rPr>
              <a:t>two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e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commas and an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  <a:ea typeface="Arial"/>
              </a:rPr>
              <a:t>a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 connect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3200" spc="-1" strike="noStrike">
                <a:solidFill>
                  <a:srgbClr val="ffc000"/>
                </a:solidFill>
                <a:latin typeface="Arial Black"/>
                <a:ea typeface="Arial"/>
              </a:rPr>
              <a:t>three or more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em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Subtitle 2"/>
          <p:cNvSpPr/>
          <p:nvPr/>
        </p:nvSpPr>
        <p:spPr>
          <a:xfrm>
            <a:off x="1143000" y="3276720"/>
            <a:ext cx="6858000" cy="10666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asmine will buy a bag of potato chips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 hotdog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,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a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so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Rounded Rectangular Callout 5"/>
          <p:cNvSpPr/>
          <p:nvPr/>
        </p:nvSpPr>
        <p:spPr>
          <a:xfrm>
            <a:off x="4114800" y="4495680"/>
            <a:ext cx="2819520" cy="1676520"/>
          </a:xfrm>
          <a:prstGeom prst="wedgeRoundRectCallout">
            <a:avLst>
              <a:gd name="adj1" fmla="val -163500"/>
              <a:gd name="adj2" fmla="val -47356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Hard wor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erves a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rewar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1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emicolon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 type="subTitle"/>
          </p:nvPr>
        </p:nvSpPr>
        <p:spPr>
          <a:xfrm>
            <a:off x="1143000" y="39621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asmine worries about her grade in statistics. Math is not her best subject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4" name="Subtitle 2"/>
          <p:cNvSpPr/>
          <p:nvPr/>
        </p:nvSpPr>
        <p:spPr>
          <a:xfrm>
            <a:off x="609480" y="1523880"/>
            <a:ext cx="79250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the semicolon [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;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] to connect two main clau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not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the semicolon to introduce a list. The comma with a transition like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such a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including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or the colon [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] does that jo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Subtitle 2"/>
          <p:cNvSpPr/>
          <p:nvPr/>
        </p:nvSpPr>
        <p:spPr>
          <a:xfrm>
            <a:off x="1143000" y="3962520"/>
            <a:ext cx="6858000" cy="1295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asmine worries about her grade in </a:t>
            </a:r>
            <a:r>
              <a:rPr b="0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statistics; mat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s not her best subjec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Subtitle 2"/>
          <p:cNvSpPr/>
          <p:nvPr/>
        </p:nvSpPr>
        <p:spPr>
          <a:xfrm>
            <a:off x="1143000" y="3962520"/>
            <a:ext cx="6858000" cy="1523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asmine prefers classes that require her to write</a:t>
            </a:r>
            <a:r>
              <a:rPr b="0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Intro to Humanities, Abnormal Psychology, and US Governm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7" name="Picture 11" descr="modest.jpg"/>
          <p:cNvPicPr/>
          <p:nvPr/>
        </p:nvPicPr>
        <p:blipFill>
          <a:blip r:embed="rId1"/>
          <a:srcRect l="0" t="0" r="0" b="50004"/>
          <a:stretch/>
        </p:blipFill>
        <p:spPr>
          <a:xfrm>
            <a:off x="5791320" y="5095800"/>
            <a:ext cx="3352680" cy="1762200"/>
          </a:xfrm>
          <a:prstGeom prst="rect">
            <a:avLst/>
          </a:prstGeom>
          <a:ln w="0">
            <a:noFill/>
          </a:ln>
        </p:spPr>
      </p:pic>
      <p:sp>
        <p:nvSpPr>
          <p:cNvPr id="1428" name="Rounded Rectangular Callout 9"/>
          <p:cNvSpPr/>
          <p:nvPr/>
        </p:nvSpPr>
        <p:spPr>
          <a:xfrm>
            <a:off x="1752480" y="5486400"/>
            <a:ext cx="2667240" cy="1143000"/>
          </a:xfrm>
          <a:prstGeom prst="wedgeRoundRectCallout">
            <a:avLst>
              <a:gd name="adj1" fmla="val 143000"/>
              <a:gd name="adj2" fmla="val -9625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I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excel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punctuatio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3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postrophe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subTitle"/>
          </p:nvPr>
        </p:nvSpPr>
        <p:spPr>
          <a:xfrm>
            <a:off x="1219320" y="4267080"/>
            <a:ext cx="67816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e cant  cheat from Jasmines punctuation quiz because shes  absent today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1" name="Subtitle 2"/>
          <p:cNvSpPr/>
          <p:nvPr/>
        </p:nvSpPr>
        <p:spPr>
          <a:xfrm>
            <a:off x="685800" y="1447920"/>
            <a:ext cx="79246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the apostrophe [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] with an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show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possession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Jasmine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’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n, the cat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’s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yes, the professor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s’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ow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use the apostrophe to indicate the letters/spaces removed in a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contraction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he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’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, can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’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, should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’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Subtitle 2"/>
          <p:cNvSpPr/>
          <p:nvPr/>
        </p:nvSpPr>
        <p:spPr>
          <a:xfrm>
            <a:off x="1219320" y="4267080"/>
            <a:ext cx="6705360" cy="14479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e can</a:t>
            </a:r>
            <a:r>
              <a:rPr b="0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  cheat from Jasmine</a:t>
            </a:r>
            <a:r>
              <a:rPr b="0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 punctuation quiz because she</a:t>
            </a:r>
            <a:r>
              <a:rPr b="0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  absent toda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3" name="Picture 12" descr="scream.jpg"/>
          <p:cNvPicPr/>
          <p:nvPr/>
        </p:nvPicPr>
        <p:blipFill>
          <a:blip r:embed="rId1"/>
          <a:stretch/>
        </p:blipFill>
        <p:spPr>
          <a:xfrm>
            <a:off x="0" y="5334120"/>
            <a:ext cx="1163520" cy="1523880"/>
          </a:xfrm>
          <a:prstGeom prst="rect">
            <a:avLst/>
          </a:prstGeom>
          <a:ln w="0">
            <a:noFill/>
          </a:ln>
        </p:spPr>
      </p:pic>
      <p:sp>
        <p:nvSpPr>
          <p:cNvPr id="1434" name="Rounded Rectangular Callout 9"/>
          <p:cNvSpPr/>
          <p:nvPr/>
        </p:nvSpPr>
        <p:spPr>
          <a:xfrm>
            <a:off x="2971800" y="5410080"/>
            <a:ext cx="2666880" cy="1219320"/>
          </a:xfrm>
          <a:prstGeom prst="wedgeRoundRectCallout">
            <a:avLst>
              <a:gd name="adj1" fmla="val -134967"/>
              <a:gd name="adj2" fmla="val 820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Ha!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tist appointmen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0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Quick Test, Part 1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6" name="TextBox 4"/>
          <p:cNvSpPr/>
          <p:nvPr/>
        </p:nvSpPr>
        <p:spPr>
          <a:xfrm>
            <a:off x="762120" y="1676520"/>
            <a:ext cx="76197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Directio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items that follow, choose the option that corrects an error in the underlined portion(s). If no error exists, choose “No change is necessary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7" name="Picture 7" descr="confident.jpg"/>
          <p:cNvPicPr/>
          <p:nvPr/>
        </p:nvPicPr>
        <p:blipFill>
          <a:blip r:embed="rId1"/>
          <a:srcRect l="0" t="0" r="0" b="42733"/>
          <a:stretch/>
        </p:blipFill>
        <p:spPr>
          <a:xfrm>
            <a:off x="1219320" y="4016520"/>
            <a:ext cx="2209680" cy="2841480"/>
          </a:xfrm>
          <a:prstGeom prst="rect">
            <a:avLst/>
          </a:prstGeom>
          <a:ln w="0">
            <a:noFill/>
          </a:ln>
        </p:spPr>
      </p:pic>
      <p:sp>
        <p:nvSpPr>
          <p:cNvPr id="1438" name="Rounded Rectangular Callout 6"/>
          <p:cNvSpPr/>
          <p:nvPr/>
        </p:nvSpPr>
        <p:spPr>
          <a:xfrm>
            <a:off x="4648320" y="4572000"/>
            <a:ext cx="2133360" cy="1752480"/>
          </a:xfrm>
          <a:prstGeom prst="wedgeRoundRectCallout">
            <a:avLst>
              <a:gd name="adj1" fmla="val -131078"/>
              <a:gd name="adj2" fmla="val -26842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w me what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you kn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2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9451"/>
                            </p:stCondLst>
                            <p:childTnLst>
                              <p:par>
                                <p:cTn id="3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9951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0" name="TextBox 3"/>
          <p:cNvSpPr/>
          <p:nvPr/>
        </p:nvSpPr>
        <p:spPr>
          <a:xfrm>
            <a:off x="533520" y="1676520"/>
            <a:ext cx="80769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though Raymond will eat a grasshopper, 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fuses all green vegetables; such as pea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inach, and even cucumb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though, Raym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rasshopper 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egetables, su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TextBox 7"/>
          <p:cNvSpPr/>
          <p:nvPr/>
        </p:nvSpPr>
        <p:spPr>
          <a:xfrm>
            <a:off x="533520" y="1676520"/>
            <a:ext cx="8076960" cy="46479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lthough Raymo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ll eat a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grasshopper, 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fuses all green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vegetables; su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s pea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inach, and even cucumb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though, Raym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rasshopper 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egetables, su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TextBox 8"/>
          <p:cNvSpPr/>
          <p:nvPr/>
        </p:nvSpPr>
        <p:spPr>
          <a:xfrm>
            <a:off x="533520" y="1676520"/>
            <a:ext cx="8076960" cy="464796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Although Raymo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ll eat a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grasshopper, h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fuses all green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vegetables, su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as pea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inach, and even cucumb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though, Raym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rasshopper 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vegetables, su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1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2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4" name="TextBox 3"/>
          <p:cNvSpPr/>
          <p:nvPr/>
        </p:nvSpPr>
        <p:spPr>
          <a:xfrm>
            <a:off x="533520" y="1600200"/>
            <a:ext cx="80769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fore his calculus exam Scott rubbed his luck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abbit’s foot and found his favorite penc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am, Sco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ubbed, 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ot,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TextBox 7"/>
          <p:cNvSpPr/>
          <p:nvPr/>
        </p:nvSpPr>
        <p:spPr>
          <a:xfrm>
            <a:off x="533520" y="1600200"/>
            <a:ext cx="8076960" cy="4724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fore his calculu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exam Scot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ubbed h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luck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abbit’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foot 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ound his favorite penc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am, Sco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ubbed, 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ot,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TextBox 8"/>
          <p:cNvSpPr/>
          <p:nvPr/>
        </p:nvSpPr>
        <p:spPr>
          <a:xfrm>
            <a:off x="533520" y="1600200"/>
            <a:ext cx="8229600" cy="4724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fore his calculus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exam, Scot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ubbed h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luck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abbit’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foot 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found his favorite penci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exam, Sco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ubbed, 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ot,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0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3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8" name="TextBox 3"/>
          <p:cNvSpPr/>
          <p:nvPr/>
        </p:nvSpPr>
        <p:spPr>
          <a:xfrm>
            <a:off x="533520" y="1676520"/>
            <a:ext cx="80769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ancine has five chair’s but six guests coming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 Thanksgiving dinner; she hopes that old Unc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ss remembers to bring an ext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a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uest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member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TextBox 8"/>
          <p:cNvSpPr/>
          <p:nvPr/>
        </p:nvSpPr>
        <p:spPr>
          <a:xfrm>
            <a:off x="533520" y="1676520"/>
            <a:ext cx="807696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ancine has fiv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hair’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ut six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gues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omi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 Thanksgiving dinner; she hopes that old Unc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s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ememb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bring an ext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a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uest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member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TextBox 9"/>
          <p:cNvSpPr/>
          <p:nvPr/>
        </p:nvSpPr>
        <p:spPr>
          <a:xfrm>
            <a:off x="533520" y="1676520"/>
            <a:ext cx="8076960" cy="49528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ancine has fiv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chai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ut six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gues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oming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 Thanksgiving dinner; she hopes that old Unc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s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ememb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to bring an ext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ha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uest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member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9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4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2" name="TextBox 3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seanne washed the piles of dirty dishes; whi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ria vacuumed the filthy rug; they tried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lete a month’s worth of housekeeping in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ngle ho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hes wh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ied,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TextBox 7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seanne washed the piles of dirt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dishes; whi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ria vacuumed the filthy rug; the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ried 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lete a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month’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orth of housekeeping in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ngle ho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hes wh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ied,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TextBox 8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seanne washed the piles of dirty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dishes whi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ria vacuumed the filthy rug; the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tried 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lete a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month’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orth of housekeeping in 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ngle ho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dishes wh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ied,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n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8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5" name="Picture 6" descr="dunno.jpg"/>
          <p:cNvPicPr/>
          <p:nvPr/>
        </p:nvPicPr>
        <p:blipFill>
          <a:blip r:embed="rId1"/>
          <a:srcRect l="0" t="0" r="0" b="28124"/>
          <a:stretch/>
        </p:blipFill>
        <p:spPr>
          <a:xfrm>
            <a:off x="2438280" y="2643120"/>
            <a:ext cx="4524480" cy="4214880"/>
          </a:xfrm>
          <a:prstGeom prst="rect">
            <a:avLst/>
          </a:prstGeom>
          <a:ln w="0">
            <a:noFill/>
          </a:ln>
        </p:spPr>
      </p:pic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tandard Punctuation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7" name="Rounded Rectangular Callout 7"/>
          <p:cNvSpPr/>
          <p:nvPr/>
        </p:nvSpPr>
        <p:spPr>
          <a:xfrm>
            <a:off x="304920" y="3809880"/>
            <a:ext cx="2133360" cy="1295640"/>
          </a:xfrm>
          <a:prstGeom prst="wedgeRoundRectCallout">
            <a:avLst>
              <a:gd name="adj1" fmla="val 137356"/>
              <a:gd name="adj2" fmla="val -9245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 I need a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comm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Rounded Rectangular Callout 8"/>
          <p:cNvSpPr/>
          <p:nvPr/>
        </p:nvSpPr>
        <p:spPr>
          <a:xfrm>
            <a:off x="6400800" y="4495680"/>
            <a:ext cx="2514600" cy="1371600"/>
          </a:xfrm>
          <a:prstGeom prst="wedgeRoundRectCallout">
            <a:avLst>
              <a:gd name="adj1" fmla="val -105828"/>
              <a:gd name="adj2" fmla="val -5375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 do I need a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semicol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501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5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6" name="TextBox 3"/>
          <p:cNvSpPr/>
          <p:nvPr/>
        </p:nvSpPr>
        <p:spPr>
          <a:xfrm>
            <a:off x="533520" y="1676520"/>
            <a:ext cx="80769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udrey can’t leave work early, and Peggy wo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lp with the cupcakes, so I gues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’ll have to 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l the baking mysel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TextBox 7"/>
          <p:cNvSpPr/>
          <p:nvPr/>
        </p:nvSpPr>
        <p:spPr>
          <a:xfrm>
            <a:off x="533520" y="1676520"/>
            <a:ext cx="8076960" cy="4724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udre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a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leave work early, and Pegg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wo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lp with the cupcakes, so I guess </a:t>
            </a:r>
            <a:r>
              <a:rPr b="1" lang="en-US" sz="3200" spc="-1" strike="noStrike" u="sng">
                <a:solidFill>
                  <a:srgbClr val="ffc000"/>
                </a:solidFill>
                <a:uFillTx/>
                <a:latin typeface="Garamond"/>
                <a:ea typeface="Arial"/>
              </a:rPr>
              <a:t>I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’l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ave to 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l the baking mysel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TextBox 8"/>
          <p:cNvSpPr/>
          <p:nvPr/>
        </p:nvSpPr>
        <p:spPr>
          <a:xfrm>
            <a:off x="533520" y="1676520"/>
            <a:ext cx="8076960" cy="4724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udrey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a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leave work early, and Peggy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w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lp with the cupcakes, so I guess </a:t>
            </a:r>
            <a:r>
              <a:rPr b="1" lang="en-US" sz="3200" spc="-1" strike="noStrike" u="sng">
                <a:solidFill>
                  <a:srgbClr val="ffc000"/>
                </a:solidFill>
                <a:uFillTx/>
                <a:latin typeface="Garamond"/>
                <a:ea typeface="Arial"/>
              </a:rPr>
              <a:t>I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’l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have to 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l the baking mysel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won’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7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6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0" name="TextBox 3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uring our picnic, we were tormented by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sects: ants swarming into the potato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lad, bees buzzing by our ears, and a katyd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umping into Henry’s open mou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icnic 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sects; 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lad b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TextBox 8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uring our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icnic, w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ere tormented b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nsects: a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warming into the potat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alad, be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uzzing by our ears, and a katyd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umping into Henry’s open mou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icnic 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sects; 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lad b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TextBox 9"/>
          <p:cNvSpPr/>
          <p:nvPr/>
        </p:nvSpPr>
        <p:spPr>
          <a:xfrm>
            <a:off x="533520" y="1523880"/>
            <a:ext cx="8076960" cy="518184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uring our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picnic, w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ere tormented b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insects: a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warming into the potat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salad, be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buzzing by our ears, and a katyd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umping into Henry’s open mou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icnic 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sects; 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alad b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6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Quick Test, Part 2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4" name="TextBox 4"/>
          <p:cNvSpPr/>
          <p:nvPr/>
        </p:nvSpPr>
        <p:spPr>
          <a:xfrm>
            <a:off x="762120" y="1676520"/>
            <a:ext cx="76197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 Black"/>
              </a:rPr>
              <a:t>Direction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items that follow, choose the sentence that is correctly punctu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5" name="Picture 7" descr="confident.jpg"/>
          <p:cNvPicPr/>
          <p:nvPr/>
        </p:nvPicPr>
        <p:blipFill>
          <a:blip r:embed="rId1"/>
          <a:srcRect l="0" t="0" r="0" b="42733"/>
          <a:stretch/>
        </p:blipFill>
        <p:spPr>
          <a:xfrm>
            <a:off x="1219320" y="3429000"/>
            <a:ext cx="2666880" cy="3429000"/>
          </a:xfrm>
          <a:prstGeom prst="rect">
            <a:avLst/>
          </a:prstGeom>
          <a:ln w="0">
            <a:noFill/>
          </a:ln>
        </p:spPr>
      </p:pic>
      <p:sp>
        <p:nvSpPr>
          <p:cNvPr id="1466" name="Rounded Rectangular Callout 6"/>
          <p:cNvSpPr/>
          <p:nvPr/>
        </p:nvSpPr>
        <p:spPr>
          <a:xfrm>
            <a:off x="4648320" y="4572000"/>
            <a:ext cx="2133360" cy="1752480"/>
          </a:xfrm>
          <a:prstGeom prst="wedgeRoundRectCallout">
            <a:avLst>
              <a:gd name="adj1" fmla="val -128222"/>
              <a:gd name="adj2" fmla="val -44231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y a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different typ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ite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5" dur="5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181"/>
                            </p:stCondLst>
                            <p:childTnLst>
                              <p:par>
                                <p:cTn id="4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5681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7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8" name="TextBox 3"/>
          <p:cNvSpPr/>
          <p:nvPr/>
        </p:nvSpPr>
        <p:spPr>
          <a:xfrm>
            <a:off x="533520" y="16765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ger spent three hours writing Christinas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ger spent three hour’s writing Christina’s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ger spent three hours writing Christina’s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TextBox 4"/>
          <p:cNvSpPr/>
          <p:nvPr/>
        </p:nvSpPr>
        <p:spPr>
          <a:xfrm>
            <a:off x="533520" y="1676520"/>
            <a:ext cx="8076960" cy="3429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ger spent three hours writing Christinas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oger spent three hour’s writing Christina’s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Roger spent three hours writing Christina’s pap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4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8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1" name="TextBox 3"/>
          <p:cNvSpPr/>
          <p:nvPr/>
        </p:nvSpPr>
        <p:spPr>
          <a:xfrm>
            <a:off x="533520" y="1600200"/>
            <a:ext cx="80769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the crickets and the frogs sing Luis cannot get a good nights slee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the crickets and the frogs sing, Luis cannot get a good night’s slee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the cricket’s and the frog’s sing, Luis cannot get a good nights slee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TextBox 4"/>
          <p:cNvSpPr/>
          <p:nvPr/>
        </p:nvSpPr>
        <p:spPr>
          <a:xfrm>
            <a:off x="533520" y="1600200"/>
            <a:ext cx="8076960" cy="35053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the crickets and the frogs sing Luis cannot get a good nights slee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When the crickets and the frogs sing, Luis cannot get a good night’s slee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the cricket’s and the frog’s sing, Luis cannot get a good nights slee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9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9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4" name="TextBox 3"/>
          <p:cNvSpPr/>
          <p:nvPr/>
        </p:nvSpPr>
        <p:spPr>
          <a:xfrm>
            <a:off x="533520" y="1600200"/>
            <a:ext cx="8076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fore you start painting the walls, you’ll need a drop cloth and a lad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fore you start painting the walls you’l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ed a drop cloth, and a lad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fore you start painting the walls, youll need a drop cloth, and a ladd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TextBox 4"/>
          <p:cNvSpPr/>
          <p:nvPr/>
        </p:nvSpPr>
        <p:spPr>
          <a:xfrm>
            <a:off x="533520" y="1600200"/>
            <a:ext cx="8076960" cy="36576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Before you start painting the walls, you’ll need a drop cloth and a lad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fore you start painting the walls you’ll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ed a drop cloth, and a lad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fore you start painting the walls, youll need a drop cloth, and a ladd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4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Item 10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7" name="TextBox 3"/>
          <p:cNvSpPr/>
          <p:nvPr/>
        </p:nvSpPr>
        <p:spPr>
          <a:xfrm>
            <a:off x="533520" y="1600200"/>
            <a:ext cx="8076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rlene laughed at Jebs haircut; it looked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 if goat’s had grazed on his h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rlene laughed at Jeb’s haircut; it look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 if goats had grazed on his hea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rlene laughed at Jeb’s haircut, it look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 if goats had grazed on his’s h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TextBox 4"/>
          <p:cNvSpPr/>
          <p:nvPr/>
        </p:nvSpPr>
        <p:spPr>
          <a:xfrm>
            <a:off x="533520" y="1600200"/>
            <a:ext cx="8076960" cy="36576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rlene laughed at Jebs haircut; it looked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 if goat’s had grazed on his h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Darlene laughed at Jeb’s haircut; it looked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s if goats had grazed on his hea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rlene laughed at Jeb’s haircut, it look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 if goats had grazed on his’s he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9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TextBox 7"/>
          <p:cNvSpPr/>
          <p:nvPr/>
        </p:nvSpPr>
        <p:spPr>
          <a:xfrm>
            <a:off x="5486400" y="2895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TextBox 6"/>
          <p:cNvSpPr/>
          <p:nvPr/>
        </p:nvSpPr>
        <p:spPr>
          <a:xfrm>
            <a:off x="5486400" y="3429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Arial Black"/>
              </a:rPr>
              <a:t>chomp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1" name="Picture 5" descr="gorilla.jpg"/>
          <p:cNvPicPr/>
          <p:nvPr/>
        </p:nvPicPr>
        <p:blipFill>
          <a:blip r:embed="rId1"/>
          <a:srcRect l="17465" t="0" r="0" b="0"/>
          <a:stretch/>
        </p:blipFill>
        <p:spPr>
          <a:xfrm>
            <a:off x="0" y="1295280"/>
            <a:ext cx="3962520" cy="4876920"/>
          </a:xfrm>
          <a:prstGeom prst="rect">
            <a:avLst/>
          </a:prstGeom>
          <a:ln w="0">
            <a:noFill/>
          </a:ln>
        </p:spPr>
      </p:pic>
      <p:sp>
        <p:nvSpPr>
          <p:cNvPr id="1482" name="Rounded Rectangular Callout 4"/>
          <p:cNvSpPr/>
          <p:nvPr/>
        </p:nvSpPr>
        <p:spPr>
          <a:xfrm>
            <a:off x="4952880" y="2362320"/>
            <a:ext cx="3733920" cy="2895480"/>
          </a:xfrm>
          <a:prstGeom prst="wedgeRoundRectCallout">
            <a:avLst>
              <a:gd name="adj1" fmla="val -103453"/>
              <a:gd name="adj2" fmla="val 1837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Grammar Byte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ovides additional handouts and exercises on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comm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apostrop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Go to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chompchomp.co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om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TextBox 3"/>
          <p:cNvSpPr/>
          <p:nvPr/>
        </p:nvSpPr>
        <p:spPr>
          <a:xfrm>
            <a:off x="2286000" y="289548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he End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0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9" name="Picture 6" descr="karate.jpg"/>
          <p:cNvPicPr/>
          <p:nvPr/>
        </p:nvPicPr>
        <p:blipFill>
          <a:blip r:embed="rId1"/>
          <a:stretch/>
        </p:blipFill>
        <p:spPr>
          <a:xfrm>
            <a:off x="6629400" y="1676520"/>
            <a:ext cx="1905120" cy="4876560"/>
          </a:xfrm>
          <a:prstGeom prst="rect">
            <a:avLst/>
          </a:prstGeom>
          <a:ln w="0">
            <a:noFill/>
          </a:ln>
        </p:spPr>
      </p:pic>
      <p:sp>
        <p:nvSpPr>
          <p:cNvPr id="1380" name="Rounded Rectangular Callout 2"/>
          <p:cNvSpPr/>
          <p:nvPr/>
        </p:nvSpPr>
        <p:spPr>
          <a:xfrm>
            <a:off x="533520" y="2743200"/>
            <a:ext cx="3352680" cy="3505320"/>
          </a:xfrm>
          <a:prstGeom prst="wedgeRoundRectCallout">
            <a:avLst>
              <a:gd name="adj1" fmla="val 138708"/>
              <a:gd name="adj2" fmla="val -4927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covers standard punctuation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end mark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comma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semicol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 apostrop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066680" y="1523880"/>
            <a:ext cx="7010640" cy="37339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unctuation items on an objective test might look like these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ample Item 1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3" name="TextBox 3"/>
          <p:cNvSpPr/>
          <p:nvPr/>
        </p:nvSpPr>
        <p:spPr>
          <a:xfrm>
            <a:off x="533520" y="1676520"/>
            <a:ext cx="80769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 we got out of the car we could smell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licious chicken and rice that Grandma w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oking for dinn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r, 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icken,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ice, t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TextBox 4"/>
          <p:cNvSpPr/>
          <p:nvPr/>
        </p:nvSpPr>
        <p:spPr>
          <a:xfrm>
            <a:off x="533520" y="1676520"/>
            <a:ext cx="8076960" cy="4724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 we got out of the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ar w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ould smell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liciou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hicken 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ice th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Grandma w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               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oking for dinn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r, 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icken,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ice, t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TextBox 5"/>
          <p:cNvSpPr/>
          <p:nvPr/>
        </p:nvSpPr>
        <p:spPr>
          <a:xfrm>
            <a:off x="533520" y="1676520"/>
            <a:ext cx="8076960" cy="4724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 we got out of th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car, w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could smell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licious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chicken 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 u="sng">
                <a:solidFill>
                  <a:srgbClr val="ffc000"/>
                </a:solidFill>
                <a:uFillTx/>
                <a:latin typeface="Arial"/>
                <a:ea typeface="Arial"/>
              </a:rPr>
              <a:t>rice th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Grandma w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</a:t>
            </a:r>
            <a:r>
              <a:rPr b="1" lang="en-US" sz="2800" spc="-1" strike="noStrike">
                <a:solidFill>
                  <a:srgbClr val="ffc000"/>
                </a:solidFill>
                <a:latin typeface="Arial"/>
                <a:ea typeface="Arial"/>
              </a:rPr>
              <a:t>B               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oking for dinn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car, 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icken, 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ice, th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 change is necessa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6" name="Picture 6" descr="lookup.jpg"/>
          <p:cNvPicPr/>
          <p:nvPr/>
        </p:nvPicPr>
        <p:blipFill>
          <a:blip r:embed="rId1"/>
          <a:stretch/>
        </p:blipFill>
        <p:spPr>
          <a:xfrm>
            <a:off x="6324480" y="3505320"/>
            <a:ext cx="701640" cy="3124080"/>
          </a:xfrm>
          <a:prstGeom prst="rect">
            <a:avLst/>
          </a:prstGeom>
          <a:ln w="0">
            <a:noFill/>
          </a:ln>
        </p:spPr>
      </p:pic>
      <p:sp>
        <p:nvSpPr>
          <p:cNvPr id="1387" name="Rounded Rectangular Callout 7"/>
          <p:cNvSpPr/>
          <p:nvPr/>
        </p:nvSpPr>
        <p:spPr>
          <a:xfrm>
            <a:off x="3581280" y="4419720"/>
            <a:ext cx="2590920" cy="1295280"/>
          </a:xfrm>
          <a:prstGeom prst="wedgeRoundRectCallout">
            <a:avLst>
              <a:gd name="adj1" fmla="val 54412"/>
              <a:gd name="adj2" fmla="val -81009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 you need a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comm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fter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ca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chicke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r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ric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Rounded Rectangular Callout 8"/>
          <p:cNvSpPr/>
          <p:nvPr/>
        </p:nvSpPr>
        <p:spPr>
          <a:xfrm>
            <a:off x="3581280" y="4419720"/>
            <a:ext cx="2590920" cy="1295280"/>
          </a:xfrm>
          <a:prstGeom prst="wedgeRoundRectCallout">
            <a:avLst>
              <a:gd name="adj1" fmla="val 55000"/>
              <a:gd name="adj2" fmla="val -82185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Exactly!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need to connect the introductory clau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Sample Item 2</a:t>
            </a:r>
            <a:endParaRPr b="1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0" name="TextBox 3"/>
          <p:cNvSpPr/>
          <p:nvPr/>
        </p:nvSpPr>
        <p:spPr>
          <a:xfrm>
            <a:off x="609480" y="1523880"/>
            <a:ext cx="79250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nce Grandma wasnt looking, Julie filled the dogs bowls with leftovers from the me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nce Grandma wasn’t looking, Julie filled the dogs’ bowls with leftover’s from the me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nce Grandma wasn’t looking, Julie filled the dogs’ bowls with leftovers from the me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Rounded Rectangular Callout 18"/>
          <p:cNvSpPr/>
          <p:nvPr/>
        </p:nvSpPr>
        <p:spPr>
          <a:xfrm>
            <a:off x="1676520" y="4876920"/>
            <a:ext cx="4343400" cy="1752480"/>
          </a:xfrm>
          <a:prstGeom prst="wedgeRoundRectCallout">
            <a:avLst>
              <a:gd name="adj1" fmla="val 67662"/>
              <a:gd name="adj2" fmla="val -5263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 item might have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4 vers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a sentence, and you will have to choose the letter where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all punctu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correc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TextBox 19"/>
          <p:cNvSpPr/>
          <p:nvPr/>
        </p:nvSpPr>
        <p:spPr>
          <a:xfrm>
            <a:off x="609480" y="1523880"/>
            <a:ext cx="8305920" cy="304812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nce Grandma wasnt looking, Julie filled the dogs bowls with leftovers from the me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ince Grandma wasn’t looking, Julie filled the dogs’ bowls with leftover’s from the me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457200">
              <a:lnSpc>
                <a:spcPct val="100000"/>
              </a:lnSpc>
              <a:buClr>
                <a:srgbClr val="ffff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Since Grandma wasn’t looking, Julie filled the dogs’ bowls with leftovers from the me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3" name="Picture 17" descr="lookup.jpg"/>
          <p:cNvPicPr/>
          <p:nvPr/>
        </p:nvPicPr>
        <p:blipFill>
          <a:blip r:embed="rId1"/>
          <a:stretch/>
        </p:blipFill>
        <p:spPr>
          <a:xfrm>
            <a:off x="6781680" y="4411800"/>
            <a:ext cx="549360" cy="2446200"/>
          </a:xfrm>
          <a:prstGeom prst="rect">
            <a:avLst/>
          </a:prstGeom>
          <a:ln w="0">
            <a:noFill/>
          </a:ln>
        </p:spPr>
      </p:pic>
      <p:sp>
        <p:nvSpPr>
          <p:cNvPr id="1394" name="Rounded Rectangular Callout 20"/>
          <p:cNvSpPr/>
          <p:nvPr/>
        </p:nvSpPr>
        <p:spPr>
          <a:xfrm>
            <a:off x="3733920" y="4876920"/>
            <a:ext cx="2286000" cy="1752480"/>
          </a:xfrm>
          <a:prstGeom prst="wedgeRoundRectCallout">
            <a:avLst>
              <a:gd name="adj1" fmla="val 83976"/>
              <a:gd name="adj2" fmla="val -53500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ice that the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apostroph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e all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correc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version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  <a:ea typeface="Arial"/>
              </a:rPr>
              <a:t> 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925040" cy="129528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nd Marks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6" name="Subtitle 2"/>
          <p:cNvSpPr/>
          <p:nvPr/>
        </p:nvSpPr>
        <p:spPr>
          <a:xfrm>
            <a:off x="685800" y="167652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the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period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] to end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stateme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Jasmine ate a chocolate-broccoli muffin</a:t>
            </a:r>
            <a:r>
              <a:rPr b="0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the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question mark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?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] when asking a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ques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Did Jasmine eat a chocolate-broccoli muffin</a:t>
            </a:r>
            <a:r>
              <a:rPr b="0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—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overuse</a:t>
            </a:r>
            <a:r>
              <a:rPr b="0" i="1" lang="en-US" sz="800" spc="-1" strike="noStrike">
                <a:solidFill>
                  <a:srgbClr val="ffc000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—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exclamation mark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!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o signify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excitement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  <a:ea typeface="Arial"/>
              </a:rPr>
              <a:t>emphasis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Oh, no</a:t>
            </a:r>
            <a:r>
              <a:rPr b="0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!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 Jasmine ate a chocolate-broccoli muffin</a:t>
            </a:r>
            <a:r>
              <a:rPr b="0" lang="en-US" sz="2400" spc="-1" strike="noStrike">
                <a:solidFill>
                  <a:srgbClr val="ffc000"/>
                </a:solidFill>
                <a:latin typeface="Arial Black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8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700000002980232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7" name="Picture 8" descr="angry.jpg"/>
          <p:cNvPicPr/>
          <p:nvPr/>
        </p:nvPicPr>
        <p:blipFill>
          <a:blip r:embed="rId1"/>
          <a:srcRect l="0" t="0" r="0" b="32812"/>
          <a:stretch/>
        </p:blipFill>
        <p:spPr>
          <a:xfrm>
            <a:off x="0" y="2590920"/>
            <a:ext cx="4863960" cy="4267080"/>
          </a:xfrm>
          <a:prstGeom prst="rect">
            <a:avLst/>
          </a:prstGeom>
          <a:ln w="0">
            <a:noFill/>
          </a:ln>
        </p:spPr>
      </p:pic>
      <p:sp>
        <p:nvSpPr>
          <p:cNvPr id="1398" name="Rounded Rectangular Callout 9"/>
          <p:cNvSpPr/>
          <p:nvPr/>
        </p:nvSpPr>
        <p:spPr>
          <a:xfrm>
            <a:off x="5638680" y="2743200"/>
            <a:ext cx="3124440" cy="3200400"/>
          </a:xfrm>
          <a:prstGeom prst="wedgeRoundRectCallout">
            <a:avLst>
              <a:gd name="adj1" fmla="val -143745"/>
              <a:gd name="adj2" fmla="val 42754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 I have broccoli stuck in my teeth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 have an appointment at the dentist’s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371600"/>
          </a:xfrm>
          <a:prstGeom prst="rect">
            <a:avLst/>
          </a:prstGeom>
          <a:solidFill>
            <a:srgbClr val="77933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txBody>
          <a:bodyPr lIns="457200" rIns="457200" tIns="182880" bIns="1828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ne exclamation mark </a:t>
            </a:r>
            <a:r>
              <a:rPr b="0" i="1" lang="en-US" sz="2800" spc="-1" strike="noStrike">
                <a:solidFill>
                  <a:srgbClr val="ffc000"/>
                </a:solidFill>
                <a:latin typeface="Arial Black"/>
              </a:rPr>
              <a:t>per essay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is a good average.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00" name="Picture 1" descr="scream.jpg"/>
          <p:cNvPicPr/>
          <p:nvPr/>
        </p:nvPicPr>
        <p:blipFill>
          <a:blip r:embed="rId1"/>
          <a:stretch/>
        </p:blipFill>
        <p:spPr>
          <a:xfrm>
            <a:off x="0" y="1981080"/>
            <a:ext cx="3724200" cy="4876920"/>
          </a:xfrm>
          <a:prstGeom prst="rect">
            <a:avLst/>
          </a:prstGeom>
          <a:ln w="0">
            <a:noFill/>
          </a:ln>
        </p:spPr>
      </p:pic>
      <p:sp>
        <p:nvSpPr>
          <p:cNvPr id="1401" name="Rounded Rectangular Callout 2"/>
          <p:cNvSpPr/>
          <p:nvPr/>
        </p:nvSpPr>
        <p:spPr>
          <a:xfrm>
            <a:off x="4952880" y="1371600"/>
            <a:ext cx="3962520" cy="3505320"/>
          </a:xfrm>
          <a:prstGeom prst="wedgeRoundRectCallout">
            <a:avLst>
              <a:gd name="adj1" fmla="val -130472"/>
              <a:gd name="adj2" fmla="val 35083"/>
              <a:gd name="adj3" fmla="val 1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ut I really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 love!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 mean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 love!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 exclamation mark!</a:t>
            </a:r>
            <a:r>
              <a:rPr b="0" i="1" lang="en-US" sz="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!</a:t>
            </a:r>
            <a:r>
              <a:rPr b="0" i="1" lang="en-US" sz="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!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 want to use it all the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 time!</a:t>
            </a:r>
            <a:r>
              <a:rPr b="0" i="1" lang="en-US" sz="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!</a:t>
            </a:r>
            <a:r>
              <a:rPr b="0" i="1" lang="en-US" sz="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!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t’s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 me!</a:t>
            </a:r>
            <a:r>
              <a:rPr b="0" i="1" lang="en-US" sz="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!</a:t>
            </a:r>
            <a:r>
              <a:rPr b="0" i="1" lang="en-US" sz="800" spc="-1" strike="noStrike">
                <a:solidFill>
                  <a:srgbClr val="000000"/>
                </a:solidFill>
                <a:latin typeface="Arial Black"/>
                <a:ea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  <a:ea typeface="Arial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TextBox 3"/>
          <p:cNvSpPr/>
          <p:nvPr/>
        </p:nvSpPr>
        <p:spPr>
          <a:xfrm>
            <a:off x="4952880" y="1371600"/>
            <a:ext cx="39625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c00000"/>
                </a:solidFill>
                <a:latin typeface="Arial Black"/>
              </a:rPr>
              <a:t>X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0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500"/>
                                  </p:stCondLst>
                                  <p:iterate type="wd">
                                    <p:tmAbs val="0.00200000002980232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uzzer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75" dur="2000" fill="hold"/>
                                        <p:tgtEl>
                                          <p:spTgt spid="14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5:35:09Z</dcterms:created>
  <dc:creator>Robin L. Simmons</dc:creator>
  <dc:description>This presentation is ©1997 - 2014 by Robin L. Simmons. All Rights Reserved.</dc:description>
  <dc:language>en-US</dc:language>
  <cp:lastModifiedBy>Nadia Williams</cp:lastModifiedBy>
  <dcterms:modified xsi:type="dcterms:W3CDTF">2014-02-27T15:12:11Z</dcterms:modified>
  <cp:revision>161</cp:revision>
  <dc:subject/>
  <dc:title>Punctu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utoReflect">
    <vt:bool>0</vt:bool>
  </property>
  <property fmtid="{D5CDD505-2E9C-101B-9397-08002B2CF9AE}" pid="3" name="KeepGraph">
    <vt:bool>0</vt:bool>
  </property>
  <property fmtid="{D5CDD505-2E9C-101B-9397-08002B2CF9AE}" pid="4" name="ShowPercent">
    <vt:bool>1</vt:bool>
  </property>
  <property fmtid="{D5CDD505-2E9C-101B-9397-08002B2CF9AE}" pid="5" name="ShowTimer">
    <vt:bool>1</vt:bool>
  </property>
</Properties>
</file>